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C0C-22E2-4E3B-829D-51DFE33B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7F65-0161-4FC6-A0B7-C3DA1E55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C17-1DE0-4D3B-BBD7-22957AB3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CCD0-A518-487F-BC3D-C2870395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04B-E973-4FE7-B22A-471110C9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D9E-717C-4B39-BE30-10BC34F0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1B4-E5AF-4921-B3D2-DA4FAD12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110F-1BCD-48C1-83BF-652B0710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A15-9250-45A8-B4A8-A643BDA4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39C-4746-42E1-A39C-6F6898F4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279-E28D-46AC-9ABE-80DE60465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A102-9292-4CE6-8BF0-A90D14C1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E52-61EF-4410-9559-0B5CE4B1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399B-1061-4A6E-84F5-74A3B97E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6D5-ABEF-49AD-B75F-83C74F55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5C59-813B-4A3F-88C9-1D82A48E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38A4-3E6C-45FF-9E94-6A1E96CE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9DBC-CF66-4B48-926D-23F9A1D1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92B-B62C-43E3-89BE-3FE41903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FD6-D4AC-4B68-9C70-E2F29C01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ACCA-2EC6-4B32-9E94-1C6D4B9B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776F-4D77-4541-9567-A830D66E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52E-9C12-4D96-A8F6-B5618D05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5782-9FBD-43F0-BC3D-71186E079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D9E-5F21-4BC4-8E97-A7738E35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3D4-9D51-4B80-A3EC-9A7F6FD8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0B9-B936-4F03-97D5-909ECE6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D13-9408-49E3-A764-AD887D2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6FF-8D16-4B04-8DEC-7AE1C79B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7AF-DA19-4293-9259-154B0C23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480-2330-422F-8139-EC2B8E2E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D55-DBCB-427C-9868-CD879AF9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29D-4285-4B67-AFFC-42E34A3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DA-7AC5-4C1E-83D7-4293F3A8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91A-95AD-4CD7-96B9-B17819A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D5A-5D7C-4F7A-BE1C-DF28A99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A09-CFC9-4782-8F44-351774A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44F-A519-44B4-A329-448F49CB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Call to Or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agine that you’re sitting with your friends in a crowded movie theatre watching a movie when, suddenly, someone yells out “FIR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sort of problems could this ca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52480" y="3603600"/>
            <a:ext cx="59436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randydandy-PRO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cam_0131_dxo"/>
          <p:cNvPicPr/>
          <p:nvPr/>
        </p:nvPicPr>
        <p:blipFill>
          <a:blip r:embed="rId1"/>
          <a:stretch/>
        </p:blipFill>
        <p:spPr>
          <a:xfrm>
            <a:off x="6019920" y="3905280"/>
            <a:ext cx="449568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religion-symbols-religious-thumb11390371"/>
          <p:cNvPicPr/>
          <p:nvPr/>
        </p:nvPicPr>
        <p:blipFill>
          <a:blip r:embed="rId2"/>
          <a:stretch/>
        </p:blipFill>
        <p:spPr>
          <a:xfrm>
            <a:off x="5548320" y="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ChildPrayer"/>
          <p:cNvPicPr/>
          <p:nvPr/>
        </p:nvPicPr>
        <p:blipFill>
          <a:blip r:embed="rId3"/>
          <a:stretch/>
        </p:blipFill>
        <p:spPr>
          <a:xfrm>
            <a:off x="-1143000" y="3933720"/>
            <a:ext cx="3962520" cy="292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black-church-people-511"/>
          <p:cNvPicPr/>
          <p:nvPr/>
        </p:nvPicPr>
        <p:blipFill>
          <a:blip r:embed="rId4"/>
          <a:stretch/>
        </p:blipFill>
        <p:spPr>
          <a:xfrm>
            <a:off x="0" y="0"/>
            <a:ext cx="5105520" cy="367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117_Indian-Muslims-praying-"/>
          <p:cNvPicPr/>
          <p:nvPr/>
        </p:nvPicPr>
        <p:blipFill>
          <a:blip r:embed="rId5"/>
          <a:stretch/>
        </p:blipFill>
        <p:spPr>
          <a:xfrm>
            <a:off x="3048120" y="3886200"/>
            <a:ext cx="2846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Reporter"/>
          <p:cNvPicPr/>
          <p:nvPr/>
        </p:nvPicPr>
        <p:blipFill>
          <a:blip r:embed="rId1"/>
          <a:stretch/>
        </p:blipFill>
        <p:spPr>
          <a:xfrm>
            <a:off x="4114800" y="228600"/>
            <a:ext cx="502920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newspaper"/>
          <p:cNvPicPr/>
          <p:nvPr/>
        </p:nvPicPr>
        <p:blipFill>
          <a:blip r:embed="rId2"/>
          <a:stretch/>
        </p:blipFill>
        <p:spPr>
          <a:xfrm>
            <a:off x="0" y="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freedom-of-press-newspapers"/>
          <p:cNvPicPr/>
          <p:nvPr/>
        </p:nvPicPr>
        <p:blipFill>
          <a:blip r:embed="rId3"/>
          <a:stretch/>
        </p:blipFill>
        <p:spPr>
          <a:xfrm>
            <a:off x="0" y="320040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8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2</a:t>
            </a:r>
            <a:r>
              <a:rPr b="1" lang="en-US" sz="9000" spc="-1" strike="noStrike" baseline="30000">
                <a:solidFill>
                  <a:srgbClr val="000000"/>
                </a:solidFill>
                <a:latin typeface="Old English Text MT"/>
              </a:rPr>
              <a:t>nd</a:t>
            </a: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73915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The right to keep and bear </a:t>
            </a: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arms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(gun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07-28-06_1049_jb0e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obama-black-gun-protester"/>
          <p:cNvPicPr/>
          <p:nvPr/>
        </p:nvPicPr>
        <p:blipFill>
          <a:blip r:embed="rId2"/>
          <a:stretch/>
        </p:blipFill>
        <p:spPr>
          <a:xfrm>
            <a:off x="5715000" y="533520"/>
            <a:ext cx="3429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40419mf_nugent_nraPJ_450"/>
          <p:cNvPicPr/>
          <p:nvPr/>
        </p:nvPicPr>
        <p:blipFill>
          <a:blip r:embed="rId1"/>
          <a:stretch/>
        </p:blipFill>
        <p:spPr>
          <a:xfrm>
            <a:off x="0" y="2743200"/>
            <a:ext cx="487692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gun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300" spc="-1" strike="noStrike">
                <a:solidFill>
                  <a:srgbClr val="000000"/>
                </a:solidFill>
                <a:latin typeface="Old English Text MT"/>
              </a:rPr>
              <a:t>3</a:t>
            </a:r>
            <a:r>
              <a:rPr b="1" lang="en-US" sz="6300" spc="-1" strike="noStrike" baseline="30000">
                <a:solidFill>
                  <a:srgbClr val="000000"/>
                </a:solidFill>
                <a:latin typeface="Old English Text MT"/>
              </a:rPr>
              <a:t>rd</a:t>
            </a:r>
            <a:r>
              <a:rPr b="1" lang="en-US" sz="63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soldier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in times of peace or war, will stay in any house without the approval of the own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noquarter"/>
          <p:cNvPicPr/>
          <p:nvPr/>
        </p:nvPicPr>
        <p:blipFill>
          <a:blip r:embed="rId1"/>
          <a:stretch/>
        </p:blipFill>
        <p:spPr>
          <a:xfrm>
            <a:off x="2514600" y="33526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4</a:t>
            </a:r>
            <a:r>
              <a:rPr b="1" lang="en-US" sz="72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person can be searched or have their possessions seized (taken) without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robabl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cause (they need a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arran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7-search-warrant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900" spc="-1" strike="noStrike">
                <a:solidFill>
                  <a:srgbClr val="000000"/>
                </a:solidFill>
                <a:latin typeface="Old English Text MT"/>
              </a:rPr>
              <a:t>5</a:t>
            </a:r>
            <a:r>
              <a:rPr b="1" lang="en-US" sz="69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9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eople have the right to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due process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government must respect people’s legal right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 Double Jeopardy = someone cannot be tried for same crime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tw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very witness in court has the right not to answer questions that may incriminate them or put them in dang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right to plead the 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Old English Text MT"/>
              </a:rPr>
              <a:t>5</a:t>
            </a:r>
            <a:r>
              <a:rPr b="0" lang="en-US" sz="56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0" lang="en-US" sz="56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5600" spc="-1" strike="noStrike">
                <a:solidFill>
                  <a:srgbClr val="333399"/>
                </a:solidFill>
                <a:latin typeface="Arial"/>
              </a:rPr>
              <a:t> Eminent Domai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86-0801145732-EminentDomainia14"/>
          <p:cNvPicPr/>
          <p:nvPr/>
        </p:nvPicPr>
        <p:blipFill>
          <a:blip r:embed="rId1"/>
          <a:stretch/>
        </p:blipFill>
        <p:spPr>
          <a:xfrm>
            <a:off x="0" y="1600200"/>
            <a:ext cx="3657600" cy="403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ngzi_hu_1"/>
          <p:cNvPicPr/>
          <p:nvPr/>
        </p:nvPicPr>
        <p:blipFill>
          <a:blip r:embed="rId2"/>
          <a:stretch/>
        </p:blipFill>
        <p:spPr>
          <a:xfrm>
            <a:off x="3657600" y="1600200"/>
            <a:ext cx="54864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304920" y="5562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vernment cannot take your home away from you without just compen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Bill of Righ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334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ll of Rights was the first 10 Amend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ut wait a minute, what exactly is an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amendmen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ill%20of%20Rights"/>
          <p:cNvPicPr/>
          <p:nvPr/>
        </p:nvPicPr>
        <p:blipFill>
          <a:blip r:embed="rId1"/>
          <a:stretch/>
        </p:blipFill>
        <p:spPr>
          <a:xfrm>
            <a:off x="6172200" y="609480"/>
            <a:ext cx="288936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09480" y="4495680"/>
          <a:ext cx="8229600" cy="1295640"/>
        </p:xfrm>
        <a:graphic>
          <a:graphicData uri="http://schemas.openxmlformats.org/drawingml/2006/table">
            <a:tbl>
              <a:tblPr/>
              <a:tblGrid>
                <a:gridCol w="3198960"/>
                <a:gridCol w="5030640"/>
              </a:tblGrid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mendment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37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hange</a:t>
                      </a:r>
                      <a:r>
                        <a:rPr b="0" lang="en-US" sz="3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or addition to the U.S. Constitution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7600" spc="-1" strike="noStrike">
                <a:solidFill>
                  <a:srgbClr val="000000"/>
                </a:solidFill>
                <a:latin typeface="Old English Text MT"/>
              </a:rPr>
              <a:t>6</a:t>
            </a:r>
            <a:r>
              <a:rPr b="1" lang="en-US" sz="76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76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People have the right to a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Arial"/>
              </a:rPr>
              <a:t>speedy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(fast) and public </a:t>
            </a:r>
            <a:r>
              <a:rPr b="0" lang="en-US" sz="6000" spc="-1" strike="noStrike" u="sng">
                <a:solidFill>
                  <a:srgbClr val="333399"/>
                </a:solidFill>
                <a:uFillTx/>
                <a:latin typeface="Arial"/>
              </a:rPr>
              <a:t>trial by jury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with a lawy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800" spc="-1" strike="noStrike">
                <a:solidFill>
                  <a:srgbClr val="000000"/>
                </a:solidFill>
                <a:latin typeface="Old English Text MT"/>
              </a:rPr>
              <a:t>7</a:t>
            </a:r>
            <a:r>
              <a:rPr b="1" lang="en-US" sz="68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8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eople have the right to a trial by jury in an case over $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bc_the_verdict_jury"/>
          <p:cNvPicPr/>
          <p:nvPr/>
        </p:nvPicPr>
        <p:blipFill>
          <a:blip r:embed="rId1"/>
          <a:stretch/>
        </p:blipFill>
        <p:spPr>
          <a:xfrm>
            <a:off x="1371600" y="2868480"/>
            <a:ext cx="63244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8</a:t>
            </a:r>
            <a:r>
              <a:rPr b="1" lang="en-US" sz="64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4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ail or fines cannot b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nfairly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igh. Also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ruel and unusual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punishment is not to be used on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41804693_a3ab8f1445"/>
          <p:cNvPicPr/>
          <p:nvPr/>
        </p:nvPicPr>
        <p:blipFill>
          <a:blip r:embed="rId1"/>
          <a:stretch/>
        </p:blipFill>
        <p:spPr>
          <a:xfrm>
            <a:off x="6257880" y="2743200"/>
            <a:ext cx="288612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380880" y="37339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penalty has to suit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an’t put someone to death for stealing a candy b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fine a person $5,000 for jay walking across the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200" spc="-1" strike="noStrike">
                <a:solidFill>
                  <a:srgbClr val="000000"/>
                </a:solidFill>
                <a:latin typeface="Old English Text MT"/>
              </a:rPr>
              <a:t>9</a:t>
            </a:r>
            <a:r>
              <a:rPr b="1" lang="en-US" sz="62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2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is states that the rights of citizens are not limited to what’s in the Constitu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Old English Text MT"/>
              </a:rPr>
              <a:t> </a:t>
            </a: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10</a:t>
            </a:r>
            <a:r>
              <a:rPr b="1" lang="en-US" sz="6500" spc="-1" strike="noStrike" baseline="30000">
                <a:solidFill>
                  <a:srgbClr val="000000"/>
                </a:solidFill>
                <a:latin typeface="Old English Text MT"/>
              </a:rPr>
              <a:t>th</a:t>
            </a:r>
            <a:r>
              <a:rPr b="1" lang="en-US" sz="65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ll powers that are not given to the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ational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government by the U.S. Constitution are powers that belong to the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at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(!!!!Federalism!!!!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  <a:ea typeface="Candara"/>
              </a:rPr>
              <a:t>Check fo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t a picture up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up the number of fingers of the amendment that is being shown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64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308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611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Old English Text MT"/>
              </a:rPr>
              <a:t>Bill of </a:t>
            </a:r>
            <a:r>
              <a:rPr b="1" lang="en-US" sz="7200" spc="-1" strike="noStrike">
                <a:solidFill>
                  <a:srgbClr val="000000"/>
                </a:solidFill>
                <a:latin typeface="Old English Text MT"/>
              </a:rPr>
              <a:t>Righ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ll of Rights was added to the U.S. Constitution by Anti-Federa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t gave Americans certain guaranteed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rights and freed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876400" y="1049400"/>
            <a:ext cx="381024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49024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680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l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ehind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4509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  <a:ea typeface="Candara"/>
              </a:rPr>
              <a:t>Eighth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981080" y="1193760"/>
            <a:ext cx="4407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Old English Text MT"/>
              </a:rPr>
              <a:t>1</a:t>
            </a:r>
            <a:r>
              <a:rPr b="1" lang="en-US" sz="6000" spc="-1" strike="noStrike" baseline="30000">
                <a:solidFill>
                  <a:srgbClr val="000000"/>
                </a:solidFill>
                <a:latin typeface="Old English Text MT"/>
              </a:rPr>
              <a:t>st</a:t>
            </a:r>
            <a:r>
              <a:rPr b="1" lang="en-US" sz="6000" spc="-1" strike="noStrike">
                <a:solidFill>
                  <a:srgbClr val="000000"/>
                </a:solidFill>
                <a:latin typeface="Old English Text MT"/>
              </a:rPr>
              <a:t> Amend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The right to freedom of 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speech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,  religion, the press (news), and the right to 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assemble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(gather in groups and protes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Speech"/>
          <p:cNvPicPr/>
          <p:nvPr/>
        </p:nvPicPr>
        <p:blipFill>
          <a:blip r:embed="rId1"/>
          <a:stretch/>
        </p:blipFill>
        <p:spPr>
          <a:xfrm>
            <a:off x="0" y="0"/>
            <a:ext cx="289548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alcolm_speaking"/>
          <p:cNvPicPr/>
          <p:nvPr/>
        </p:nvPicPr>
        <p:blipFill>
          <a:blip r:embed="rId2"/>
          <a:stretch/>
        </p:blipFill>
        <p:spPr>
          <a:xfrm>
            <a:off x="6429240" y="0"/>
            <a:ext cx="271476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95667-004-724F17E5"/>
          <p:cNvPicPr/>
          <p:nvPr/>
        </p:nvPicPr>
        <p:blipFill>
          <a:blip r:embed="rId3"/>
          <a:stretch/>
        </p:blipFill>
        <p:spPr>
          <a:xfrm>
            <a:off x="0" y="2571840"/>
            <a:ext cx="3067200" cy="428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Freedom-of-Speech"/>
          <p:cNvPicPr/>
          <p:nvPr/>
        </p:nvPicPr>
        <p:blipFill>
          <a:blip r:embed="rId4"/>
          <a:stretch/>
        </p:blipFill>
        <p:spPr>
          <a:xfrm>
            <a:off x="3048120" y="3276720"/>
            <a:ext cx="2438280" cy="358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norman-rockwell-freedom-of-speech"/>
          <p:cNvPicPr/>
          <p:nvPr/>
        </p:nvPicPr>
        <p:blipFill>
          <a:blip r:embed="rId5"/>
          <a:stretch/>
        </p:blipFill>
        <p:spPr>
          <a:xfrm>
            <a:off x="3048120" y="0"/>
            <a:ext cx="3352680" cy="327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29speech-web"/>
          <p:cNvPicPr/>
          <p:nvPr/>
        </p:nvPicPr>
        <p:blipFill>
          <a:blip r:embed="rId6"/>
          <a:stretch/>
        </p:blipFill>
        <p:spPr>
          <a:xfrm>
            <a:off x="5486400" y="31240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3pro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anti-abortion-activis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Death-Penalty_PS-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US-healthcare-protest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0:03:06Z</dcterms:created>
  <dc:creator>bmgiglio</dc:creator>
  <dc:description/>
  <dc:language>en-US</dc:language>
  <cp:lastModifiedBy>Molly Zeins</cp:lastModifiedBy>
  <dcterms:modified xsi:type="dcterms:W3CDTF">2011-10-29T20:21:24Z</dcterms:modified>
  <cp:revision>26</cp:revision>
  <dc:subject/>
  <dc:title>Welcome Back!!</dc:title>
</cp:coreProperties>
</file>